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FC2-416A-4E1A-8CBB-291BF378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D0B-6FCB-4D72-84E8-B4390BBF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C11-920F-4FC5-B77F-BAFB73E8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772-A330-4090-9AD3-38D29C0B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9C3B-70B9-4EC2-9E1A-A54DAE56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0C66-EC28-440B-BB9E-23809046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6A37-7837-4694-9ED6-B21946CB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1B97-A1F3-4F89-A670-2E19B823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F107-E22D-442D-A54B-DFAAD311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EE7B-146E-4E58-8932-C50AA392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461D-F0F1-4112-854F-3527A91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42C-4DB2-49B9-BDB9-D6865E09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0501-38F0-4FA8-824A-E710CC1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C384-656D-4CE5-A69D-1CB00B4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4DF8-785E-4040-8921-D028BECD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CD1-BEA1-478D-B261-9842C3B0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95E5-EEEE-4613-A86C-B0C53BCD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D0F-FAE1-4356-B788-85EC7786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B76-81E3-41D3-A1EC-0569F7C9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47B-8374-4E7B-9162-89C0C488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B5A-6102-44E1-BB49-E68D8E3A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829-4276-4811-9E50-76804E2F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AB4-3A1B-4600-B4DD-102420EB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307-117A-4C38-BE71-190036DF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D359-2B4B-4DA2-9009-A5CF2D49CA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164F-1BAC-4305-AFC7-1CC2E2C667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IVICS – SEMESTER RE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litical Socializ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ndividuals form political ideas and beliefs – comes from family, school, religion, peer groups, gender and ethnicity, and news med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mination by Peti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didates who are not from major parties but have gotten enough signatures to be placed on a ball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erest Grou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cus on specific issues or topics and encourage political parties to maintain and promote their beliefs and val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ectoral Colle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up that elects the President – composed of the number of representatives and senators per st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wers of Congr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federal la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lare W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in mone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te commerce (trad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of these are called expressed or enumerated powers and are described in Article I of the Constit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ch branch holds some power over the other two branch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eaching the Preside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sident vetoing a bi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gress overriding a veto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nate ratifying a trea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ill Making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use or Senate creates and passes a bi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ident signs or vetoes the bill (this role is called Chief Legislato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to Po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id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veto the entire bill on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cket veto – less than 10 days before Congress adjour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it 10 days, not signing the bill and allowing the bill to become la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ressional Overr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/3 majority of Congress can overri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ederal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red powers between the federal and state govern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linois Constit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islative body = General Assemb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ief Executive = Govern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me Rule = process in which a county or municipal government may provide the citizens its own serv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claration of Independ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lare freedom from Brit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end natural righ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grievances (issues) against 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rpose of Governm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tect people’s righ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in grieva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itain limiting people’s righ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th Quarter Learning Target Review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43200" y="221616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 year citiz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year te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0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 year citiz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 year te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id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5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4 year citizen – natural bo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year te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reme Court Justice or Federal Jud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tiz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fe te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libus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The ability to give a long speech or series of speeches in an attempt to delay the work of the Sena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ticle I – Legislative (Congress) makes la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ticle II – Executive – enforces la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ticle III – Judicial – reviews la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ll of Rights –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en Amend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ights of Citiz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cutive Privileg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don – the excuse of an offense without exacting a penalty; a release from the legal penalties of an offen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Executive agreement - Presidents make deals with other nations or leaders, they are avoiding the treaty ratification power of the Sena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rove treaties - Sen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rt revenue bills - Hou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age respective departments - Cabin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e laws unconstitutional – Supreme Cou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toes Laws - Presid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eachment power – House Impeaches / Senate T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roves appointments - Sen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ander in Chief - Presid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ides over the House of Representatives - Speak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s opinions on law – Supreme Cou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mendment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ress proposes amendments with a 2/3 majority v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legislatures ratify amendments with a ¾ v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971 Changes to Illinois Constit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tection against discrimination for the handicapp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tection against discrimination for wom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aris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inois 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e Item Ve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ec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resenta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nimum age = 2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18 + 5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 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line item ve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d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poi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resentat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nimum age = 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35 + 1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nd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al Contra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 that people give consent to the government in exchange for prot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if the government doesn’t do its duty citizens have the right to abolish the gover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deralists – Strong, central govern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ti-Federalists – Weaker central government with more power in the sta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ill of Rights – key issue to ratifying the Constitution to ensure people’s righ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ed by Anti-federa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is to protect individual libe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ms of 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Democracy – everybody votes for everyth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ctatorship – total 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archy – hereditary royalty with symbolic responsibil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bsolute Monarchy – hereditary royalty with total 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ocracy – religious and political leadership combin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sidential vs. Parliament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ident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ive and legislative branches elected by vo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liament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islative branch elected by vo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ive appointed by Legisla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economy – government makes all decisions (goal of equalit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 economy – free enterprise, supply and demand controlled by consumers and produc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tional economy – no government influence – based on exchange of goo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ve Citizenship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74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ing civic participation to address problems facing their communities, their country, and the worl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1074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voting, running for office, working on a political campaign, sponsoring food drives, et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beral Ideo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voring an active role for government in solving society’s probl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Support Health care, same-sex marriage, social pro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ervative Ideo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voring a limited role of government in economic affairs and a greater role in regulating social affai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reduce taxes and regulations, ban same-sex marriage, limit immig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4:11:13Z</dcterms:created>
  <dc:creator>School District U46</dc:creator>
  <dc:description/>
  <dc:language>en-US</dc:language>
  <cp:lastModifiedBy>School District U46</cp:lastModifiedBy>
  <dcterms:modified xsi:type="dcterms:W3CDTF">2013-05-09T15:02:56Z</dcterms:modified>
  <cp:revision>18</cp:revision>
  <dc:subject/>
  <dc:title>CIVICS – SEMESTER REVIEW</dc:title>
</cp:coreProperties>
</file>